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29.jpeg" ContentType="image/jpeg"/>
  <Override PartName="/ppt/media/image10.jpeg" ContentType="image/jpeg"/>
  <Override PartName="/ppt/media/image23.png" ContentType="image/png"/>
  <Override PartName="/ppt/media/image13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4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9274-B238-4917-8AE0-62F71FEC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5B35-D3C4-429D-B5B1-4FA0273A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3822-59D9-4A89-B04F-AE7E8319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971F-E084-4A7B-B5ED-08E7C562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2086-60A5-4CC3-8238-43C4690D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D42A-839E-4374-B806-EC1B25E3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390-066B-4FC8-8EDA-CDE5E04C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B62-13CD-481E-BEB6-5AF397DB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A12D-95AF-4EC8-9C1D-555AC441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A530-FEB3-436F-89C8-297D466F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13E-A7F9-4EB0-915B-DC61B20C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6F3-443C-4680-B85D-AC33CCF9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8FFC-5789-4826-B7F0-7872C6EDD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image46.webshots.com/46/6/94/81/2679694810090609470TvILjF_fs.jpg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images.google.com/imgres?imgurl=http://jongandhi.files.wordpress.com/2009/04/16tuna_600x306jpg.jpeg&amp;imgrefurl=http://jongandhi.wordpress.com/2009/04/20/loyar-buruk-monday-blues/&amp;usg=__eKR2DlM_dsk2cvr44tVW3P9fq7k=&amp;h=306&amp;w=600&amp;sz=37&amp;hl=en&amp;start=4&amp;sig2=JRQTC4zxRTrCGdJeIkktCg&amp;itbs=1&amp;tbnid=uL1FvlfeRnntpM:&amp;tbnh=69&amp;tbnw=135&amp;prev=/images%3Fq%3Dtuna%26hl%3Den%26safe%3Dactive%26gbv%3D2%26tbs%3Disch:1&amp;ei=K5KBS43-CsOk8Aaa_YncBg" TargetMode="External"/><Relationship Id="rId5" Type="http://schemas.openxmlformats.org/officeDocument/2006/relationships/image" Target="../media/image32.jpeg"/><Relationship Id="rId6" Type="http://schemas.openxmlformats.org/officeDocument/2006/relationships/hyperlink" Target="http://images.google.com/imgres?imgurl=http://sharkattackphotos.com/Bull-shark.jpg&amp;imgrefurl=http://sharkattackphotos.com/Shark_Attack_Stories.htm&amp;usg=__vVzZd0F3DlSE7ydtSDQz5KthbGw=&amp;h=327&amp;w=473&amp;sz=12&amp;hl=en&amp;start=22&amp;sig2=ZFLmrKIWn3NyQT-XYRY1Sg&amp;itbs=1&amp;tbnid=ZM6JM2eMoQ8qfM:&amp;tbnh=89&amp;tbnw=129&amp;prev=/images%3Fq%3Dshark%26start%3D18%26hl%3Den%26safe%3Dactive%26sa%3DN%26gbv%3D2%26ndsp%3D18%26tbs%3Disch:1&amp;ei=VJKBS4C-HpDT8QbTyrjWBg" TargetMode="External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c/Amia_calva1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hyperlink" Target="http://www.tolweb.org/tree/ToLimages/Ictalurus_punctatus.250a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ucmp.berkeley.edu/vertebrates/actinopterygii/fringetail2.gif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users.ugent.be/~kwautier/VMDB/images/zebravis.jpg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people.moreheadstate.edu/fs/d.eisenhour/Percina%20macrocephala%202.jpg" TargetMode="External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images.google.com/url?q=http://www.wetwebmedia.com/ca/volume_3/cav3i3/swim_bladders/closed_config.jpg&amp;usg=AFQjCNGseiYAEgkfhATx6qFHBoauueWCSA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284920" y="549360"/>
            <a:ext cx="2895120" cy="58140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'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476360" y="1932120"/>
            <a:ext cx="6165720" cy="146556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 about different classes of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 an expert in your fish and teach the class about this animals life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grow as fish g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in ageing, except for sharks their scales overlap and fuse (intercale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is seasonal and varies summer and 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Lab_9b-02a"/>
          <p:cNvPicPr/>
          <p:nvPr/>
        </p:nvPicPr>
        <p:blipFill>
          <a:blip r:embed="rId1"/>
          <a:stretch/>
        </p:blipFill>
        <p:spPr>
          <a:xfrm>
            <a:off x="228600" y="1447920"/>
            <a:ext cx="2424240" cy="190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914040" y="625320"/>
            <a:ext cx="233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n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owfin, sturge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3" descr="Placoid scales of a Broadnose Sevengill Shark"/>
          <p:cNvPicPr/>
          <p:nvPr/>
        </p:nvPicPr>
        <p:blipFill>
          <a:blip r:embed="rId2"/>
          <a:stretch/>
        </p:blipFill>
        <p:spPr>
          <a:xfrm>
            <a:off x="5867280" y="2057400"/>
            <a:ext cx="1905120" cy="163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Text Box 14"/>
          <p:cNvSpPr/>
          <p:nvPr/>
        </p:nvSpPr>
        <p:spPr>
          <a:xfrm>
            <a:off x="5014440" y="990720"/>
            <a:ext cx="3477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o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fou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arks and r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6" descr=""/>
          <p:cNvPicPr/>
          <p:nvPr/>
        </p:nvPicPr>
        <p:blipFill>
          <a:blip r:embed="rId3"/>
          <a:stretch/>
        </p:blipFill>
        <p:spPr>
          <a:xfrm>
            <a:off x="4724280" y="4343400"/>
            <a:ext cx="4419720" cy="1960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"/>
          <p:cNvPicPr/>
          <p:nvPr/>
        </p:nvPicPr>
        <p:blipFill>
          <a:blip r:embed="rId4"/>
          <a:stretch/>
        </p:blipFill>
        <p:spPr>
          <a:xfrm>
            <a:off x="838080" y="3429000"/>
            <a:ext cx="271944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"/>
          <p:cNvPicPr/>
          <p:nvPr/>
        </p:nvPicPr>
        <p:blipFill>
          <a:blip r:embed="rId5"/>
          <a:stretch/>
        </p:blipFill>
        <p:spPr>
          <a:xfrm>
            <a:off x="3048120" y="2514600"/>
            <a:ext cx="14572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2scale_ctenoid"/>
          <p:cNvPicPr/>
          <p:nvPr/>
        </p:nvPicPr>
        <p:blipFill>
          <a:blip r:embed="rId1"/>
          <a:stretch/>
        </p:blipFill>
        <p:spPr>
          <a:xfrm>
            <a:off x="6477120" y="3809880"/>
            <a:ext cx="1828800" cy="1519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Ctenoid scales of a Paradise Fish"/>
          <p:cNvPicPr/>
          <p:nvPr/>
        </p:nvPicPr>
        <p:blipFill>
          <a:blip r:embed="rId2"/>
          <a:stretch/>
        </p:blipFill>
        <p:spPr>
          <a:xfrm>
            <a:off x="6095880" y="1981080"/>
            <a:ext cx="2438640" cy="18050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45720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152280" y="2209680"/>
            <a:ext cx="2533680" cy="24415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14"/>
          <p:cNvGrpSpPr/>
          <p:nvPr/>
        </p:nvGrpSpPr>
        <p:grpSpPr>
          <a:xfrm>
            <a:off x="3352680" y="1533600"/>
            <a:ext cx="2362320" cy="3952800"/>
            <a:chOff x="3352680" y="1533600"/>
            <a:chExt cx="2362320" cy="3952800"/>
          </a:xfrm>
        </p:grpSpPr>
        <p:pic>
          <p:nvPicPr>
            <p:cNvPr id="113" name="Picture 11" descr=""/>
            <p:cNvPicPr/>
            <p:nvPr/>
          </p:nvPicPr>
          <p:blipFill>
            <a:blip r:embed="rId4"/>
            <a:stretch/>
          </p:blipFill>
          <p:spPr>
            <a:xfrm>
              <a:off x="3352680" y="1533600"/>
              <a:ext cx="2362320" cy="39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4" descr=""/>
            <p:cNvPicPr/>
            <p:nvPr/>
          </p:nvPicPr>
          <p:blipFill>
            <a:blip r:embed="rId5"/>
            <a:srcRect l="0" t="0" r="58643" b="92363"/>
            <a:stretch/>
          </p:blipFill>
          <p:spPr>
            <a:xfrm>
              <a:off x="4343400" y="1533600"/>
              <a:ext cx="137160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Line 15"/>
          <p:cNvSpPr/>
          <p:nvPr/>
        </p:nvSpPr>
        <p:spPr>
          <a:xfrm flipH="1">
            <a:off x="2514240" y="1600200"/>
            <a:ext cx="762120" cy="4572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5791320" y="1676520"/>
            <a:ext cx="457200" cy="1522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vary based upon life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king legs, suckers, propel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ks fins are stiff at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www.americanaquariumproducts.com/images/graphics/fishfinidentification.jpg"/>
          <p:cNvPicPr/>
          <p:nvPr/>
        </p:nvPicPr>
        <p:blipFill>
          <a:blip r:embed="rId1"/>
          <a:stretch/>
        </p:blipFill>
        <p:spPr>
          <a:xfrm>
            <a:off x="1905120" y="3390840"/>
            <a:ext cx="52959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http://www.mexfish.com/fish/rivgob/rivgobsnow175b.jpg"/>
          <p:cNvPicPr/>
          <p:nvPr/>
        </p:nvPicPr>
        <p:blipFill>
          <a:blip r:embed="rId1"/>
          <a:stretch/>
        </p:blipFill>
        <p:spPr>
          <a:xfrm>
            <a:off x="304920" y="1447920"/>
            <a:ext cx="3352680" cy="258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1523880"/>
            <a:ext cx="2301840" cy="1737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http://t1.gstatic.com/images?q=tbn:uL1FvlfeRnntpM:http://jongandhi.files.wordpress.com/2009/04/16tuna_600x306jpg.jpe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90720" y="4343400"/>
            <a:ext cx="3295440" cy="1684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t1.gstatic.com/images?q=tbn:ZM6JM2eMoQ8qfM:http://sharkattackphotos.com/Bull-shark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72200" y="2438280"/>
            <a:ext cx="2462040" cy="1698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http://t3.gstatic.com/images?q=tbn:C0FTdJmSHM3caM:http://www.dfw.state.or.us/warm_water_fishing/images/YellowPerch.gif"/>
          <p:cNvPicPr/>
          <p:nvPr/>
        </p:nvPicPr>
        <p:blipFill>
          <a:blip r:embed="rId8"/>
          <a:stretch/>
        </p:blipFill>
        <p:spPr>
          <a:xfrm>
            <a:off x="5715000" y="4800600"/>
            <a:ext cx="30542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il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250px-PletwyRyb"/>
          <p:cNvPicPr/>
          <p:nvPr/>
        </p:nvPicPr>
        <p:blipFill>
          <a:blip r:embed="rId1"/>
          <a:stretch/>
        </p:blipFill>
        <p:spPr>
          <a:xfrm>
            <a:off x="2300400" y="1676520"/>
            <a:ext cx="4543200" cy="31255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1981080" y="4892400"/>
            <a:ext cx="5351760" cy="119124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caudal fin 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) - Heterocercal, (B) - Protocercal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) - Homocercal, (D) - Diphycer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th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136b"/>
          <p:cNvPicPr/>
          <p:nvPr/>
        </p:nvPicPr>
        <p:blipFill>
          <a:blip r:embed="rId1"/>
          <a:stretch/>
        </p:blipFill>
        <p:spPr>
          <a:xfrm>
            <a:off x="1295280" y="1143000"/>
            <a:ext cx="1633680" cy="1981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136a"/>
          <p:cNvPicPr/>
          <p:nvPr/>
        </p:nvPicPr>
        <p:blipFill>
          <a:blip r:embed="rId2"/>
          <a:stretch/>
        </p:blipFill>
        <p:spPr>
          <a:xfrm>
            <a:off x="6095880" y="1295280"/>
            <a:ext cx="2109960" cy="174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136c"/>
          <p:cNvPicPr/>
          <p:nvPr/>
        </p:nvPicPr>
        <p:blipFill>
          <a:blip r:embed="rId3"/>
          <a:stretch/>
        </p:blipFill>
        <p:spPr>
          <a:xfrm>
            <a:off x="5943600" y="3986280"/>
            <a:ext cx="2286000" cy="1738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136d"/>
          <p:cNvPicPr/>
          <p:nvPr/>
        </p:nvPicPr>
        <p:blipFill>
          <a:blip r:embed="rId4"/>
          <a:stretch/>
        </p:blipFill>
        <p:spPr>
          <a:xfrm>
            <a:off x="990720" y="4122720"/>
            <a:ext cx="2361960" cy="17002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2"/>
          <p:cNvSpPr/>
          <p:nvPr/>
        </p:nvSpPr>
        <p:spPr>
          <a:xfrm>
            <a:off x="6630840" y="3048120"/>
            <a:ext cx="1121040" cy="3682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554520" y="5715000"/>
            <a:ext cx="968760" cy="3682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1525680" y="3122640"/>
            <a:ext cx="1133280" cy="3682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1373040" y="5807160"/>
            <a:ext cx="1501920" cy="3682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838080" y="579600"/>
            <a:ext cx="739152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= shark, lampry, american eel, yellow perch, st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structure: swim bladder, no b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tat: how does this impact their tale type feeding, where they reside in water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Fish Are Chor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65760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lum: Chor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 of phyl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och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ears early in embryo stage important role in promoting or       organizing the embryonic development of nearby struct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ll chordates have a notochord including hum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e c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chordates develops dorsally in the body as a hollow tube above the notoch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ryngeal or gill slits (humans have these as embryos but develop as lu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ersity of fis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,000 described, 100 described annually = 3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% of all vertebrates' are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ity are bony fish, only 800 cartilagi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riginated from echinod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527200" y="168120"/>
            <a:ext cx="40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wless Verteb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92400" y="2178000"/>
            <a:ext cx="4008960" cy="250200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Agnatha (Jawl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gfish and Lamprey 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 slender bodies with dors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tral, and caudal (tail) f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gue used for rasping and parasi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genA"/>
          <p:cNvPicPr/>
          <p:nvPr/>
        </p:nvPicPr>
        <p:blipFill>
          <a:blip r:embed="rId1"/>
          <a:stretch/>
        </p:blipFill>
        <p:spPr>
          <a:xfrm>
            <a:off x="5486400" y="1066680"/>
            <a:ext cx="2666880" cy="2524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lamprey"/>
          <p:cNvPicPr/>
          <p:nvPr/>
        </p:nvPicPr>
        <p:blipFill>
          <a:blip r:embed="rId2"/>
          <a:stretch/>
        </p:blipFill>
        <p:spPr>
          <a:xfrm>
            <a:off x="5172120" y="4191120"/>
            <a:ext cx="3514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5147640" y="1673640"/>
            <a:ext cx="3460320" cy="320292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Chondrichthy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ks and 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letons made of carti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cercal 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to 7 gill s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wim bl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64280" y="1616040"/>
            <a:ext cx="2721240" cy="119124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Placod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awed f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389040" y="16812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wed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chaindogburgess2"/>
          <p:cNvPicPr/>
          <p:nvPr/>
        </p:nvPicPr>
        <p:blipFill>
          <a:blip r:embed="rId1"/>
          <a:srcRect l="0" t="33564" r="0" b="29244"/>
          <a:stretch/>
        </p:blipFill>
        <p:spPr>
          <a:xfrm>
            <a:off x="2819520" y="4572000"/>
            <a:ext cx="6324480" cy="14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placodermi"/>
          <p:cNvPicPr/>
          <p:nvPr/>
        </p:nvPicPr>
        <p:blipFill>
          <a:blip r:embed="rId2"/>
          <a:stretch/>
        </p:blipFill>
        <p:spPr>
          <a:xfrm>
            <a:off x="152280" y="2819520"/>
            <a:ext cx="40388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367640" y="227880"/>
            <a:ext cx="63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Osteichthyes (Bony Fish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40520" y="1030320"/>
            <a:ext cx="770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: Fusiform body, single gill open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m bladder or 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221120" y="2514240"/>
            <a:ext cx="27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class Sarcopteryg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be f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5335200" y="2482200"/>
            <a:ext cx="27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class Actinopteryg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y-finned f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572000" y="175248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2590920" y="2286000"/>
            <a:ext cx="19810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572000" y="2286000"/>
            <a:ext cx="18288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6384960" y="228600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2603520" y="228600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6" descr="fsh9"/>
          <p:cNvPicPr/>
          <p:nvPr/>
        </p:nvPicPr>
        <p:blipFill>
          <a:blip r:embed="rId1"/>
          <a:stretch/>
        </p:blipFill>
        <p:spPr>
          <a:xfrm>
            <a:off x="1295280" y="3581280"/>
            <a:ext cx="2505240" cy="2286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7"/>
          <p:cNvSpPr/>
          <p:nvPr/>
        </p:nvSpPr>
        <p:spPr>
          <a:xfrm>
            <a:off x="290520" y="5943240"/>
            <a:ext cx="43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nly living species of coelocant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timeria chalumna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9" descr="R-ray-fin"/>
          <p:cNvPicPr/>
          <p:nvPr/>
        </p:nvPicPr>
        <p:blipFill>
          <a:blip r:embed="rId2"/>
          <a:stretch/>
        </p:blipFill>
        <p:spPr>
          <a:xfrm>
            <a:off x="4724280" y="3533760"/>
            <a:ext cx="4267440" cy="2257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0"/>
          <p:cNvSpPr/>
          <p:nvPr/>
        </p:nvSpPr>
        <p:spPr>
          <a:xfrm>
            <a:off x="1281600" y="64371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2498040" y="644364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pec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81360" y="929880"/>
            <a:ext cx="4492080" cy="18316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order Chondros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rge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Paddle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ctics: ganiod scal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cercal tail, operculum, ventral 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45800" y="3564360"/>
            <a:ext cx="4726800" cy="19234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order Holos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wfins and g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: bony fish, ganoid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151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class Actinopterygi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-finned f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4874040" y="1049760"/>
            <a:ext cx="4144680" cy="100872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order Teleos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mon, eel, catfish,et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Image:Amia calva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334120"/>
            <a:ext cx="4476600" cy="1207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180px-Sturgeon2"/>
          <p:cNvPicPr/>
          <p:nvPr/>
        </p:nvPicPr>
        <p:blipFill>
          <a:blip r:embed="rId3"/>
          <a:stretch/>
        </p:blipFill>
        <p:spPr>
          <a:xfrm>
            <a:off x="762120" y="2684520"/>
            <a:ext cx="3047760" cy="8967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3"/>
          <p:cNvSpPr/>
          <p:nvPr/>
        </p:nvSpPr>
        <p:spPr>
          <a:xfrm>
            <a:off x="4954320" y="2238120"/>
            <a:ext cx="4206960" cy="119124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800 living species in 24 order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noid scales abse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oid or ctenoid scales prese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ocercal, developed swimbl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Salmo_trutta"/>
          <p:cNvPicPr/>
          <p:nvPr/>
        </p:nvPicPr>
        <p:blipFill>
          <a:blip r:embed="rId4"/>
          <a:stretch/>
        </p:blipFill>
        <p:spPr>
          <a:xfrm>
            <a:off x="5486400" y="3733920"/>
            <a:ext cx="844560" cy="1066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Ictalurus_punctatu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1680" y="3733920"/>
            <a:ext cx="1143000" cy="819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fringetail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5105520"/>
            <a:ext cx="895320" cy="81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1" descr="zebravi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772400" y="47242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3" descr="Percina%2520macrocephala%252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952880" y="5867280"/>
            <a:ext cx="142884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941560" y="1828800"/>
            <a:ext cx="3228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uperorder Teleos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626200" y="100080"/>
            <a:ext cx="3928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ass Osteichth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743920" y="990720"/>
            <a:ext cx="3652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bclass Actinopteryg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4572000" y="7621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>
            <a:off x="4572000" y="1523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1"/>
          <a:stretch/>
        </p:blipFill>
        <p:spPr>
          <a:xfrm>
            <a:off x="5810400" y="2438280"/>
            <a:ext cx="3181320" cy="412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311940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Line 12"/>
          <p:cNvSpPr/>
          <p:nvPr/>
        </p:nvSpPr>
        <p:spPr>
          <a:xfrm>
            <a:off x="4038480" y="3429000"/>
            <a:ext cx="13716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4191120" y="5867280"/>
            <a:ext cx="11430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mblad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86880" y="13262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oc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363360" y="13262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ost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68280" y="1941480"/>
            <a:ext cx="3292200" cy="91692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pening to the gut, 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constant volu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of 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543640" y="1981080"/>
            <a:ext cx="2682720" cy="91692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ing to the g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estral swimblad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lp and burp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open_config"/>
          <p:cNvPicPr/>
          <p:nvPr/>
        </p:nvPicPr>
        <p:blipFill>
          <a:blip r:embed="rId1"/>
          <a:stretch/>
        </p:blipFill>
        <p:spPr>
          <a:xfrm>
            <a:off x="5638680" y="3124080"/>
            <a:ext cx="2514600" cy="1710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closed_confi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3124080"/>
            <a:ext cx="217188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6:31:22Z</dcterms:created>
  <dc:creator>Christin</dc:creator>
  <dc:description/>
  <dc:language>en-US</dc:language>
  <cp:lastModifiedBy>owner</cp:lastModifiedBy>
  <dcterms:modified xsi:type="dcterms:W3CDTF">2010-02-21T20:10:31Z</dcterms:modified>
  <cp:revision>12</cp:revision>
  <dc:subject/>
  <dc:title>Slide 1</dc:title>
</cp:coreProperties>
</file>