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A0F-EFF4-44E0-9053-207FA9B8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BE9-D0B6-4979-BE4A-9F362EE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D31-078A-4C92-B1B2-C509E4F4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992-DDD4-40B3-BE49-8CB6152D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072-84FD-4DA6-BFF6-324BE279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8C4-C01F-4EF8-BBD2-D6556E3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C9B-40F2-4A28-880B-3B2D430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046-A0F9-4D64-A619-43CF5E0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87E-666B-477D-AC86-F5AA9AF0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81B-27C2-4DD3-B7C7-FE1F6E0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F01-4F4B-41AB-90EB-A438E4C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DDA-E400-46B9-9B44-F5BC0C0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A03-243A-4020-BD3A-444A87DF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46.webshots.com/46/6/94/81/2679694810090609470TvILjF_fs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jongandhi.files.wordpress.com/2009/04/16tuna_600x306jpg.jpeg&amp;imgrefurl=http://jongandhi.wordpress.com/2009/04/20/loyar-buruk-monday-blues/&amp;usg=__eKR2DlM_dsk2cvr44tVW3P9fq7k=&amp;h=306&amp;w=600&amp;sz=37&amp;hl=en&amp;start=4&amp;sig2=JRQTC4zxRTrCGdJeIkktCg&amp;itbs=1&amp;tbnid=uL1FvlfeRnntpM:&amp;tbnh=69&amp;tbnw=135&amp;prev=/images%3Fq%3Dtuna%26hl%3Den%26safe%3Dactive%26gbv%3D2%26tbs%3Disch:1&amp;ei=K5KBS43-CsOk8Aaa_YncB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sharkattackphotos.com/Bull-shark.jpg&amp;imgrefurl=http://sharkattackphotos.com/Shark_Attack_Stories.htm&amp;usg=__vVzZd0F3DlSE7ydtSDQz5KthbGw=&amp;h=327&amp;w=473&amp;sz=12&amp;hl=en&amp;start=22&amp;sig2=ZFLmrKIWn3NyQT-XYRY1Sg&amp;itbs=1&amp;tbnid=ZM6JM2eMoQ8qfM:&amp;tbnh=89&amp;tbnw=129&amp;prev=/images%3Fq%3Dshark%26start%3D18%26hl%3Den%26safe%3Dactive%26sa%3DN%26gbv%3D2%26ndsp%3D18%26tbs%3Disch:1&amp;ei=VJKBS4C-HpDT8QbTyrjWBg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Amia_calv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www.tolweb.org/tree/ToLimages/Ictalurus_punctatus.250a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ucmp.berkeley.edu/vertebrates/actinopterygii/fringetail2.gif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users.ugent.be/~kwautier/VMDB/images/zebravis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people.moreheadstate.edu/fs/d.eisenhour/Percina%20macrocephala%202.jp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url?q=http://www.wetwebmedia.com/ca/volume_3/cav3i3/swim_bladders/closed_config.jpg&amp;usg=AFQjCNGseiYAEgkfhATx6qFHBoauueWCSA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4920" y="549360"/>
            <a:ext cx="2895120" cy="5814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'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76360" y="1932120"/>
            <a:ext cx="6165720" cy="146556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bout different classes of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an expert in your fish and teach the class about this animals life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grow as fish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ageing, except for sharks their scales overlap and fuse (intercale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seasonal and varies summer and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ab_9b-02a"/>
          <p:cNvPicPr/>
          <p:nvPr/>
        </p:nvPicPr>
        <p:blipFill>
          <a:blip r:embed="rId1"/>
          <a:stretch/>
        </p:blipFill>
        <p:spPr>
          <a:xfrm>
            <a:off x="228600" y="1447920"/>
            <a:ext cx="2424240" cy="19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14040" y="625320"/>
            <a:ext cx="23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wfin, sturge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Placoid scales of a Broadnose Sevengill Shark"/>
          <p:cNvPicPr/>
          <p:nvPr/>
        </p:nvPicPr>
        <p:blipFill>
          <a:blip r:embed="rId2"/>
          <a:stretch/>
        </p:blipFill>
        <p:spPr>
          <a:xfrm>
            <a:off x="5867280" y="2057400"/>
            <a:ext cx="1905120" cy="16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5014440" y="990720"/>
            <a:ext cx="347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arks and r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19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27194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1457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scale_ctenoid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tenoid scales of a Paradise Fish"/>
          <p:cNvPicPr/>
          <p:nvPr/>
        </p:nvPicPr>
        <p:blipFill>
          <a:blip r:embed="rId2"/>
          <a:stretch/>
        </p:blipFill>
        <p:spPr>
          <a:xfrm>
            <a:off x="6095880" y="1981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3368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4"/>
          <p:cNvGrpSpPr/>
          <p:nvPr/>
        </p:nvGrpSpPr>
        <p:grpSpPr>
          <a:xfrm>
            <a:off x="3352680" y="1533600"/>
            <a:ext cx="2362320" cy="3952800"/>
            <a:chOff x="3352680" y="1533600"/>
            <a:chExt cx="2362320" cy="3952800"/>
          </a:xfrm>
        </p:grpSpPr>
        <p:pic>
          <p:nvPicPr>
            <p:cNvPr id="113" name="Picture 11" descr=""/>
            <p:cNvPicPr/>
            <p:nvPr/>
          </p:nvPicPr>
          <p:blipFill>
            <a:blip r:embed="rId4"/>
            <a:stretch/>
          </p:blipFill>
          <p:spPr>
            <a:xfrm>
              <a:off x="3352680" y="1533600"/>
              <a:ext cx="236232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rcRect l="0" t="0" r="58643" b="92363"/>
            <a:stretch/>
          </p:blipFill>
          <p:spPr>
            <a:xfrm>
              <a:off x="4343400" y="1533600"/>
              <a:ext cx="13716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Line 15"/>
          <p:cNvSpPr/>
          <p:nvPr/>
        </p:nvSpPr>
        <p:spPr>
          <a:xfrm flipH="1">
            <a:off x="2514240" y="1600200"/>
            <a:ext cx="762120" cy="457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791320" y="1676520"/>
            <a:ext cx="457200" cy="152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ary based upon lif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 legs, suckers, prop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 fins are stiff at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americanaquariumproducts.com/images/graphics/fishfinidentification.jpg"/>
          <p:cNvPicPr/>
          <p:nvPr/>
        </p:nvPicPr>
        <p:blipFill>
          <a:blip r:embed="rId1"/>
          <a:stretch/>
        </p:blipFill>
        <p:spPr>
          <a:xfrm>
            <a:off x="1905120" y="3390840"/>
            <a:ext cx="5295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www.mexfish.com/fish/rivgob/rivgobsnow175b.jpg"/>
          <p:cNvPicPr/>
          <p:nvPr/>
        </p:nvPicPr>
        <p:blipFill>
          <a:blip r:embed="rId1"/>
          <a:stretch/>
        </p:blipFill>
        <p:spPr>
          <a:xfrm>
            <a:off x="304920" y="1447920"/>
            <a:ext cx="3352680" cy="258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523880"/>
            <a:ext cx="2301840" cy="17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uL1FvlfeRnntpM:http://jongandhi.files.wordpress.com/2009/04/16tuna_600x306jpg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4343400"/>
            <a:ext cx="3295440" cy="168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1.gstatic.com/images?q=tbn:ZM6JM2eMoQ8qfM:http://sharkattackphotos.com/Bull-shar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2438280"/>
            <a:ext cx="2462040" cy="169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t3.gstatic.com/images?q=tbn:C0FTdJmSHM3caM:http://www.dfw.state.or.us/warm_water_fishing/images/YellowPerch.gif"/>
          <p:cNvPicPr/>
          <p:nvPr/>
        </p:nvPicPr>
        <p:blipFill>
          <a:blip r:embed="rId8"/>
          <a:stretch/>
        </p:blipFill>
        <p:spPr>
          <a:xfrm>
            <a:off x="5715000" y="4800600"/>
            <a:ext cx="3054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250px-PletwyRyb"/>
          <p:cNvPicPr/>
          <p:nvPr/>
        </p:nvPicPr>
        <p:blipFill>
          <a:blip r:embed="rId1"/>
          <a:stretch/>
        </p:blipFill>
        <p:spPr>
          <a:xfrm>
            <a:off x="2300400" y="1676520"/>
            <a:ext cx="4543200" cy="3125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981080" y="4892400"/>
            <a:ext cx="53517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audal fin 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- Heterocercal, (B) - Protocerca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- Homocercal, (D) - Diphycer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6b"/>
          <p:cNvPicPr/>
          <p:nvPr/>
        </p:nvPicPr>
        <p:blipFill>
          <a:blip r:embed="rId1"/>
          <a:stretch/>
        </p:blipFill>
        <p:spPr>
          <a:xfrm>
            <a:off x="1295280" y="1143000"/>
            <a:ext cx="16336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6a"/>
          <p:cNvPicPr/>
          <p:nvPr/>
        </p:nvPicPr>
        <p:blipFill>
          <a:blip r:embed="rId2"/>
          <a:stretch/>
        </p:blipFill>
        <p:spPr>
          <a:xfrm>
            <a:off x="6095880" y="1295280"/>
            <a:ext cx="2109960" cy="17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36c"/>
          <p:cNvPicPr/>
          <p:nvPr/>
        </p:nvPicPr>
        <p:blipFill>
          <a:blip r:embed="rId3"/>
          <a:stretch/>
        </p:blipFill>
        <p:spPr>
          <a:xfrm>
            <a:off x="5943600" y="3986280"/>
            <a:ext cx="2286000" cy="173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36d"/>
          <p:cNvPicPr/>
          <p:nvPr/>
        </p:nvPicPr>
        <p:blipFill>
          <a:blip r:embed="rId4"/>
          <a:stretch/>
        </p:blipFill>
        <p:spPr>
          <a:xfrm>
            <a:off x="990720" y="4122720"/>
            <a:ext cx="2361960" cy="1700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6630840" y="3048120"/>
            <a:ext cx="112104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554520" y="5715000"/>
            <a:ext cx="96876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525680" y="3122640"/>
            <a:ext cx="113328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3040" y="5807160"/>
            <a:ext cx="150192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38080" y="57960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= shark, lampry, american eel, yellow perch, st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ucture: swim bladder, no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: how does this impact their tale type feeding, where they reside in wate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ish Are Chor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um: Chor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phyl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och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early in embryo stage important role in promoting or       organizing the embryonic development of nearby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 chordates have a notochord including hum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ordates develops dorsally in the body as a hollow tube above the notoch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yngeal or gill slits (humans have these as embryos but develop as lu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described, 100 described annually = 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all vertebrates' ar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are bony fish, only 800 cartilagi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iginated from echinod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27200" y="16812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less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2400" y="2178000"/>
            <a:ext cx="4008960" cy="25020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gnatha (Jaw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gfish and Lamprey 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 slender bodies with dor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al, and caudal (tail) f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gue used for rasping and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enA"/>
          <p:cNvPicPr/>
          <p:nvPr/>
        </p:nvPicPr>
        <p:blipFill>
          <a:blip r:embed="rId1"/>
          <a:stretch/>
        </p:blipFill>
        <p:spPr>
          <a:xfrm>
            <a:off x="5486400" y="1066680"/>
            <a:ext cx="266688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amprey"/>
          <p:cNvPicPr/>
          <p:nvPr/>
        </p:nvPicPr>
        <p:blipFill>
          <a:blip r:embed="rId2"/>
          <a:stretch/>
        </p:blipFill>
        <p:spPr>
          <a:xfrm>
            <a:off x="5172120" y="4191120"/>
            <a:ext cx="3514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5147640" y="1673640"/>
            <a:ext cx="3460320" cy="3202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hondrichth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s and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s made of cart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 7 gill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wim 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4280" y="1616040"/>
            <a:ext cx="272124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lacod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w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389040" y="1681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e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haindogburgess2"/>
          <p:cNvPicPr/>
          <p:nvPr/>
        </p:nvPicPr>
        <p:blipFill>
          <a:blip r:embed="rId1"/>
          <a:srcRect l="0" t="33564" r="0" b="29244"/>
          <a:stretch/>
        </p:blipFill>
        <p:spPr>
          <a:xfrm>
            <a:off x="2819520" y="4572000"/>
            <a:ext cx="63244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lacodermi"/>
          <p:cNvPicPr/>
          <p:nvPr/>
        </p:nvPicPr>
        <p:blipFill>
          <a:blip r:embed="rId2"/>
          <a:stretch/>
        </p:blipFill>
        <p:spPr>
          <a:xfrm>
            <a:off x="152280" y="2819520"/>
            <a:ext cx="4038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367640" y="22788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Osteichthyes (Bony F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40520" y="1030320"/>
            <a:ext cx="77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 Fusiform body, single gill ope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 bladder or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21120" y="251424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Sarc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e f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35200" y="248220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Actin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nned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572000" y="17524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590920" y="22860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72000" y="2286000"/>
            <a:ext cx="1828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38496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60352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fsh9"/>
          <p:cNvPicPr/>
          <p:nvPr/>
        </p:nvPicPr>
        <p:blipFill>
          <a:blip r:embed="rId1"/>
          <a:stretch/>
        </p:blipFill>
        <p:spPr>
          <a:xfrm>
            <a:off x="1295280" y="3581280"/>
            <a:ext cx="250524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290520" y="594324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living species of coelocan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timeria chalumna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R-ray-fin"/>
          <p:cNvPicPr/>
          <p:nvPr/>
        </p:nvPicPr>
        <p:blipFill>
          <a:blip r:embed="rId2"/>
          <a:stretch/>
        </p:blipFill>
        <p:spPr>
          <a:xfrm>
            <a:off x="4724280" y="3533760"/>
            <a:ext cx="426744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1281600" y="643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498040" y="6443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1360" y="929880"/>
            <a:ext cx="4492080" cy="18316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Chondr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rge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addle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ctics: ganiod sc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, operculum, ventral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5800" y="3564360"/>
            <a:ext cx="4726800" cy="19234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Hol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fins and g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: bony fish, ganoid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51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 Actinopteryg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-finn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874040" y="1049760"/>
            <a:ext cx="4144680" cy="10087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Tele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mon, eel, catfish,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mage:Amia calv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4120"/>
            <a:ext cx="4476600" cy="120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80px-Sturgeon2"/>
          <p:cNvPicPr/>
          <p:nvPr/>
        </p:nvPicPr>
        <p:blipFill>
          <a:blip r:embed="rId3"/>
          <a:stretch/>
        </p:blipFill>
        <p:spPr>
          <a:xfrm>
            <a:off x="762120" y="2684520"/>
            <a:ext cx="3047760" cy="89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954320" y="2238120"/>
            <a:ext cx="42069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800 living species in 24 or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oid scales abs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oid or ctenoid scales pres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cercal, developed swim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Salmo_trutta"/>
          <p:cNvPicPr/>
          <p:nvPr/>
        </p:nvPicPr>
        <p:blipFill>
          <a:blip r:embed="rId4"/>
          <a:stretch/>
        </p:blipFill>
        <p:spPr>
          <a:xfrm>
            <a:off x="5486400" y="3733920"/>
            <a:ext cx="84456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Ictalurus_punctat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7339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fringetail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5105520"/>
            <a:ext cx="89532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zebravi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4724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Percina%2520macrocephala%252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5867280"/>
            <a:ext cx="14288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941560" y="1828800"/>
            <a:ext cx="32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perorder Teleos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626200" y="100080"/>
            <a:ext cx="392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 Osteichth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43920" y="990720"/>
            <a:ext cx="36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class Actinoptery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4572000" y="762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0" y="1523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5810400" y="2438280"/>
            <a:ext cx="3181320" cy="412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Line 12"/>
          <p:cNvSpPr/>
          <p:nvPr/>
        </p:nvSpPr>
        <p:spPr>
          <a:xfrm>
            <a:off x="4038480" y="3429000"/>
            <a:ext cx="13716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191120" y="5867280"/>
            <a:ext cx="1143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m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6880" y="1326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c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363360" y="1326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st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8280" y="1941480"/>
            <a:ext cx="329220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pening to the gut,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constant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43640" y="1981080"/>
            <a:ext cx="268272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o the g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ral swimblad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lp and burp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open_config"/>
          <p:cNvPicPr/>
          <p:nvPr/>
        </p:nvPicPr>
        <p:blipFill>
          <a:blip r:embed="rId1"/>
          <a:stretch/>
        </p:blipFill>
        <p:spPr>
          <a:xfrm>
            <a:off x="5638680" y="3124080"/>
            <a:ext cx="2514600" cy="171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losed_conf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124080"/>
            <a:ext cx="2171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31:22Z</dcterms:created>
  <dc:creator>Christin</dc:creator>
  <dc:description/>
  <dc:language>en-US</dc:language>
  <cp:lastModifiedBy>owner</cp:lastModifiedBy>
  <dcterms:modified xsi:type="dcterms:W3CDTF">2010-02-21T20:10:31Z</dcterms:modified>
  <cp:revision>12</cp:revision>
  <dc:subject/>
  <dc:title>Slide 1</dc:title>
</cp:coreProperties>
</file>